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AB0-935E-423B-82AB-B11B0DC5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E06-35BB-40CF-8D7D-6AD36DED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982-1FFB-4FEE-83F0-8E5B4A3E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385-54C8-4FD3-B9C5-31B0D5A9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94E-21F5-497D-B6EA-AE639879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B11-5194-4B87-A8E9-FBF45F9C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365-BB75-44A4-B7BF-D3EECC68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873-31E5-4CD2-989A-D7574D5C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06E-0F4A-4CC5-9858-D60D8A82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5D7-3E20-457C-A0C0-FC79AFF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2F0-2584-4F7A-9B6E-C09C43E7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650-5683-4903-AE52-4194AEE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03A9-747C-4E30-8079-5E0475F4D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585" t="0" r="6797" b="0"/>
          <a:stretch/>
        </p:blipFill>
        <p:spPr>
          <a:xfrm>
            <a:off x="0" y="47628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10138" t="12213" r="12796" b="12189"/>
          <a:stretch/>
        </p:blipFill>
        <p:spPr>
          <a:xfrm>
            <a:off x="250920" y="907920"/>
            <a:ext cx="5976720" cy="439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82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16490" b="0"/>
          <a:stretch/>
        </p:blipFill>
        <p:spPr>
          <a:xfrm>
            <a:off x="179280" y="260280"/>
            <a:ext cx="6121440" cy="4849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26520" y="549360"/>
            <a:ext cx="30045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6880" y="2924280"/>
            <a:ext cx="361260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тойч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640" y="1700280"/>
            <a:ext cx="50011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еустремл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640" y="4365720"/>
            <a:ext cx="6101640" cy="1739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мение бы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мелым исследовател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кружающ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240" y="333360"/>
            <a:ext cx="6124320" cy="6129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менно та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ыцари нау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явля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линной гордость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оей больш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малой родин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торых воспит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первую очередь семь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мейный уклад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адиции и огром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юбовь роди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68880" y="5805360"/>
            <a:ext cx="42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Н.П. Крав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17673E-006 L -0.3474 -0.26348 E">
                                      <p:cBhvr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3982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7485" t="0" r="6683" b="0"/>
          <a:stretch/>
        </p:blipFill>
        <p:spPr>
          <a:xfrm>
            <a:off x="0" y="404640"/>
            <a:ext cx="914400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14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7485" t="0" r="6683" b="0"/>
          <a:stretch/>
        </p:blipFill>
        <p:spPr>
          <a:xfrm>
            <a:off x="0" y="404640"/>
            <a:ext cx="914400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3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333360"/>
            <a:ext cx="820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известный известный учены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трихи к портрету Н.П. Кравко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461800">
            <a:off x="3276360" y="3284280"/>
            <a:ext cx="2995560" cy="297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82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57652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67331" t="26385" r="0" b="14450"/>
          <a:stretch/>
        </p:blipFill>
        <p:spPr>
          <a:xfrm>
            <a:off x="0" y="0"/>
            <a:ext cx="58262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982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503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54800" y="333360"/>
            <a:ext cx="213192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7652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8000" y="189000"/>
            <a:ext cx="6119280" cy="5041800"/>
            <a:chOff x="108000" y="189000"/>
            <a:chExt cx="6119280" cy="50418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08000" y="189000"/>
              <a:ext cx="2958120" cy="50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305160" y="189000"/>
              <a:ext cx="2922120" cy="50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982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2022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42544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6072120" cy="455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rcRect l="12610" t="0" r="11779" b="0"/>
          <a:stretch/>
        </p:blipFill>
        <p:spPr>
          <a:xfrm>
            <a:off x="6588000" y="333360"/>
            <a:ext cx="21607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6:11:51Z</dcterms:created>
  <dc:creator>сергей</dc:creator>
  <dc:description/>
  <dc:language>en-US</dc:language>
  <cp:lastModifiedBy>сергей</cp:lastModifiedBy>
  <dcterms:modified xsi:type="dcterms:W3CDTF">2017-03-13T16:14:48Z</dcterms:modified>
  <cp:revision>4</cp:revision>
  <dc:subject/>
  <dc:title>Слайд 1</dc:title>
</cp:coreProperties>
</file>